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B269C-63CD-4F5B-AD52-FEE219804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E6F21-E7CB-4D08-9A1E-CCD5E2EE7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B7C22-B6A4-468E-95E8-427DDFDE2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3E056-CEFA-4005-A11D-89F538496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D8126-08FF-49DF-BD04-D99FE4DEB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6CD81-12A4-4AA3-A9B2-3F8CB3331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3D661-CB85-4A79-B8EF-D52AA5924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E80E7-A347-494A-8766-1D0D0A97D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12755-C850-4E5E-88CE-205AFE897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75178-DC58-465D-B769-C6BA74C4A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6588A-51BD-47F3-AC7E-AF4412BE3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0EAC-23BC-4920-BF33-19BE8A49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B3899-38C9-4ACF-B7B4-0EE719981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E974D-BA2D-4741-A494-76F77552C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A2F77-4F41-4617-AE57-280552FC5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B0D6E-2FDD-4D34-BA31-228EBE597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C8687-14A8-4ABD-B0B4-4B97EDAE0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EDC2-4893-43D0-9E3C-6AD30C516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C4146-4EA1-4830-B6F2-88EDAE81C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54B47-6D8F-4E52-AA70-4DD9A7AD7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1A739-CEDC-41D0-AC11-58F39828C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6DFD-B6D6-4087-B064-5094DDB6A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EF362-A134-4723-9BE8-1A5D53AC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5A0D1-A6D5-4655-9106-88F01A923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0C77-FF76-4B64-8D0D-7B3777621A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48AA-C111-4E89-A21A-843F7262A5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UNITATEA ŞI DIVERSITATEA LUMII VII</a:t>
            </a:r>
            <a:endParaRPr b="0" lang="en-US" sz="1400" spc="-1" strike="noStrike">
              <a:solidFill>
                <a:srgbClr val="ffff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lum contrast="-48000"/>
          </a:blip>
          <a:stretch/>
        </p:blipFill>
        <p:spPr>
          <a:xfrm>
            <a:off x="5638680" y="1752480"/>
            <a:ext cx="155916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br>
              <a:rPr sz="1000"/>
            </a:b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lucru</a:t>
            </a:r>
            <a:endParaRPr b="0" lang="en-US" sz="1000" spc="-1" strike="noStrike">
              <a:solidFill>
                <a:srgbClr val="ffff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e9e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17</cp:lastModifiedBy>
  <dcterms:modified xsi:type="dcterms:W3CDTF">2012-06-19T11:10:05Z</dcterms:modified>
  <cp:revision>34</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